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A2B-C872-4FCC-BA54-8F30E094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D57-3DED-4362-BEEA-F6E5348E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69889-7E5C-49D6-8CBD-C5A2DC5C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5DEA0-44EA-4048-8E7D-E957D8AF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24727-BDB1-4548-9CD7-379017E8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9853F-67BA-4B38-9572-DF13F86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62235-9A1C-4ACC-9FAC-38A60ED7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02B8F-A407-48DC-8B53-8DEFD769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38A9C-6336-4F1C-8456-F2B735BB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AC599-12B1-4446-8C04-D46239E8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0C457-3C3A-4C84-92C2-34CB747D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B4ED7-BCE1-4AC2-97FC-B269F00B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C97-2AA3-458C-998D-74710101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72C20-19CF-4061-943D-DB0E7A4C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87C46-35BA-46C9-9AF5-CAC2283D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74966-F316-4586-A99F-C0606BD6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06A3D-B2F0-4323-B4FC-C66E4D57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54FA5-E0CB-4E04-ACE2-6DB7F908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4D134-DD82-4517-8139-FC6F5F0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7CB23-E38D-4F89-8A64-8F8D868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4303A-7494-4DB7-A385-0473CB6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E10CB-6A34-48AD-8475-FEC1C4BA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A827C-CD3E-4A29-9659-E93D3CEA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38B-E65A-4BC3-9CA5-FFBC2C51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5236B-A654-40B2-B97C-16793395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736BC7-4F1F-4BA5-989F-6A1A614D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D987F8-CC29-4F9A-82CE-33B7D6BE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4E04BB-9EF4-42F6-8C30-2AB94C53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8DDD4F-E249-4F3C-A3E7-DC863577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5A4829-749E-4564-B427-80EA5ACB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7681B5-995B-45A5-B064-2D992639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BA09B1-67CF-48DE-AA84-12CC3C0D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2F639E-EF7E-4B73-B5EF-0F7C7237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4CC5BE-F34B-4C33-B856-05A5233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5C577A-7B7D-453C-9E75-71D27FD8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2456A9-13AD-4E65-B817-610C3E54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E6ADC8-F3DE-4131-9417-23E7EE70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3E73D-C354-45BE-B250-D84995D6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DCBCC-1051-4182-AD73-406A4A4A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600B8-8351-4189-8013-98130626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A234D-8EBF-430A-9355-034F80EB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7706C-805E-4A3D-86AF-825730E2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A3776-E18B-4E09-87E8-9B31782E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C48CD-DEEF-4680-8D51-48231C98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E85F4-1AB8-4FD5-82BE-C8A8C8CF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7BDC2-7DDC-4F6E-B8CD-112F919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3406E-BC38-46D9-BC35-7E4F556B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BD2BB-BE8B-43CA-A2AB-DFA9B8A4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73C97-38CF-4B4C-A1C5-BB79DD44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567645-7D69-48C1-B4A6-E3F9B672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8EAC2F-4C88-4B10-86FF-8F12EDD9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FAA97A-5C14-4615-A1E9-91F3A314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AD6BFC-2148-4DED-8B83-A34DEF27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818C1B-0643-43D9-B144-15FB2BD7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5A4082-7A09-4999-9387-D33DFD2A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DCA113-F451-4CBD-A3F2-D3485285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A5256B-ED2F-4981-9528-2F246A31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885E91-C8EC-4851-97F0-A1B037E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2FC6D9-595E-43BE-8E0E-B89C9FC4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9E67BD-88A1-4EC5-AEEE-0D205228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D5084F-8896-4BC6-B7E6-72D051A3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87094-6A8E-43BB-BA00-FEBC0AB2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AF54B-6739-4F3E-85CF-FC71A4CA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0B612-136B-4A0D-A24A-B5CEF155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6EA4F-4766-4C67-82B1-D58AA86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8C4D8-7D32-4730-80CF-FB670E2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1615F-EDD4-400B-90A7-41300358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B05EF-6904-4820-A656-4C1ADA9D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A9788-94FB-418A-8DC2-4051357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00518-6306-4FB9-A775-071EA6FD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890BE-C9D4-4095-ABDA-B382B5B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78817-D8B5-49B2-B50E-C4474A8F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DEE21-B24E-4941-9A0E-8B136A5F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4C980-044B-43D6-8778-B66EF505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5D2F6-5A88-47A4-8424-413A1A33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A72A0-3AC4-4F23-8D12-DFA78544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C93DD-96F7-43BD-BB5B-92F3CFF6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A244EA-6635-42DD-8BC8-3DA5CC2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FEA1C-0B4B-46D7-BB33-C432180B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5E2CF-E3E3-4729-8FBD-3F521777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5EF65-96FA-4667-8F39-C1893AC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EA1BF-FF20-4A84-88F4-5CE1DA9A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1A03B-BECF-4A5C-A79A-0B05E24A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0571F-7431-4384-ACB0-90F9359A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01144-C58D-4382-A62B-1E5A085D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49B82-48DE-41CA-870E-F3D2CA7F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7A4D2-4299-4FFD-9792-E297629D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CAEB0-0525-497F-89DA-891A784C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7FAC2-D5DA-4B04-BDEC-74406776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0686F1-AC82-4912-9113-15E2618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67392-60ED-4962-94DD-29CD8B0D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C5435-0095-4C42-B2AB-7A95BC8B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761-2B72-4ACE-9E9C-9C2D6C47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691B4-667F-468E-9F1D-A90B3646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119DF-E8F9-4A99-A9D7-63FEC63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45B8E-4243-4433-AC4D-E7A0969B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CA1D3-0847-4479-A667-F720A200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62619-8B0A-4104-A013-8CF8E782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9E76F-3F14-4A3F-A3D1-19BB6C11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E7510-3BE2-415D-BED8-86143BD9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28A99-55AC-4F1A-A1FA-1CEBFBE1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39C12-E776-4667-B9CD-87C90297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29E4E-BE10-484B-99B6-E441C60D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28282-1F5A-4DB6-BA23-E4E5F96C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62843-A302-4588-9EF9-7050EEC6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8DDE5-6B3A-4240-8094-3D3431B1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8EEB2-226C-4414-A1E1-7CAB70C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1565E-E69F-4D50-9141-E31F2621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1174D-DB04-49D9-8BB9-83F65A1D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8B5CF-FE5A-4DEB-A48E-4522382E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3BA1E-4F6F-4C94-8BC5-846F9515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ADB5D-7517-4A86-9741-82C1A1AA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AE514-9B27-4229-A98F-76395E2D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A79A7-5219-4061-8935-247E3D3B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919E5-84DC-47C5-AA5B-FD52F2FA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9D1C9-F62D-425A-8B52-A93FEE52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0C9D9-78C9-43BA-AA5C-1F40BEF7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770D9-71CD-4481-AE19-804F7EF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6103BC-D4C4-489B-9CA4-677FCEE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D600D-4C01-47A0-BFEE-ECEFD9FD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6315F-CF3C-472E-A6F3-D9ED76ED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964E9-7BA6-46E5-A563-61272E24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08CC9-DB4D-4574-89D0-7127D2D0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32640-63D8-4FD6-B2DA-A490E44E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8274CE-43B4-4B4F-8282-7C547A08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533EF4-F12F-4F9C-8B05-C943D35C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CD4EB-4C0D-4BBB-8015-63A60607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CBC1F-B9B3-48AC-BE02-2F90DE9B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DEA90E-C593-4F71-8D73-D2C7732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C3B8E-9C7D-43A9-8B33-129CD599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7DC00-D5A7-4FF7-B6D1-28953801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2C9E2-E7EA-4023-AB7D-3AA82707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D2F769-0E35-4B50-986A-1D7FFB1F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A2914-C1CE-4650-BC0C-49A3B9F9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DEBA6-6A78-42FD-A3A0-949843BE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1DE09B-63CF-4ECD-98A6-DA628E9A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8CFF2-DC9F-484F-ABFB-CD611531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5543F-8A06-4197-8444-9C15F09E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0AFA0-C6BF-4523-B3AC-F33B3F6F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DD0DB-2C3B-4C3A-B9A7-87B56A2A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7A79A3-0541-4ACA-A6EC-5AF23A48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5D794-0FA6-4A06-BEA1-EEB65C36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3718F2-E240-4C99-A9BC-0F8DD913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B9AC6-6B9C-4F9F-B86A-AECFA5C9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88336B-E2BA-4C6B-A28F-D4BFF3AE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36354-FCB6-4B86-B585-F1C46020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8B9566-B899-4988-8279-63DF1BFF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CD4C0-013D-486E-89E8-544061CC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E6075-0F5E-4CFA-9AD7-E680C282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E70F6-9F4F-4423-A4F3-A91B4BA3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5AD01-D5F1-473C-B4D3-254EE110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B59-E23B-4F75-BFFD-7885E432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12278-3576-4793-83B9-FC48D123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FB7A8-459B-4897-A920-50D0D055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6C98D-81B0-4E9D-B90D-CA06108E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11BD7-24F7-40B8-BF73-9C68869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ABB44-2E74-4BAB-A607-E99E783B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860DF-075A-4FBB-80C5-ACAE7909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28DAB-7F36-4FFA-89EB-93975FDF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389CF-0CB8-4653-BB12-43A30665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C856E-A7F7-4ED9-9EE4-24C0CFA0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32543-ACC3-4391-9023-FFAD6023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B87-60B6-4DB1-8D2B-7710D5B2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53E53-3783-406F-81CB-0DF1B2FA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0F178A-1DC7-4632-929D-EFFDFDD6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378DD-C081-42F7-915F-B50296A5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D39AA-B70F-47DD-9560-00BC9EAF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DD6D5-B371-4F54-8569-3A8C998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67B10-9A1B-448C-AECD-EE48604D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D7AE2-938C-407C-9805-3EBDF5C8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60634-F2A9-4BE4-A989-0A1BC927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182EB-AA33-4B02-BD25-0E535363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A48-9A32-4827-A8EB-904096B5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94E-394F-452C-8018-239B4F7D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B9803-5171-410F-80A7-65E84A46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9428BE-8F01-4593-9CA9-908CE30E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1D02F2-C013-40BA-9782-5EC396EC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246BAC-6C1B-4DF7-9BDA-1B568F75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4B3DB1-E659-40D0-8583-7207D729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9B14C1-B8A4-4239-A965-A6BE8B09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633BF-C0E9-43EB-A79C-2545E93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6965BB-9AB4-4D01-926D-D935ED47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00C886-FF34-43FE-9EED-C99E95D6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A39-A0C3-41B0-BFA1-F5346F37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E3E5CD-2320-4FA2-9B78-005A6F07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9E2C6E-D752-4BF0-8BA5-1F262163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0379E-77CE-46EA-9E94-F6AA911F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B9F5D7-F0FC-4B1F-AA59-7853405F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951FCE-3D45-4E98-A5D9-403973D7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7F2E2A-60DA-4399-8332-36FDCC39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B7E922-F623-4DB6-9223-7AB9066F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1ACB56-C2CF-46E9-9F89-2092C785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BEAE73-D419-4582-BFE8-287349FC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B53D0F-A0D3-4510-9C98-CC79F9C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4C1-B5A9-4C84-B122-E7F2FF1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2789FB-ECF4-4714-8BC7-17586DB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8A200F-D071-4A1F-B96E-052528B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D61276-B3F4-4874-9B96-6183FCA8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C1416A-D530-4650-BDBF-476E401A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4301E0-558D-4017-A0EA-94C84EDE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5CB612-5C0C-4A55-A212-D03A6CC0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D560B1-A012-45B2-8542-1893BEF1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417106-86B4-4EC8-BB0C-C7A61210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184D00-5006-4BD7-AAA0-CFE2EF4A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90ECBB-0BFB-442D-A72C-48359292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C31-99C2-461A-98F5-1D09FE0B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2A249-C2F3-4D1D-A7DB-392311F7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BF0A38-E85D-4ADB-B2B8-C5581298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90735A-6511-4473-81ED-4BB830F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14406F-0227-43CE-94EC-67AE203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317A7-ABC0-46DB-AF40-B6101E8B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DC8B8A-671B-4D4F-8EC8-94FC5CE7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39F7E3-BFF1-4103-A7D2-7188C588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8F8D4-EDFF-42B6-A027-2D515879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63994-0969-4037-A028-7C2AB446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51ADD-F08D-406F-81B8-C9457AA6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920A8-9314-4AB4-BCAD-D24C52352E6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D57BA-3F80-4F9D-8755-95033CE777F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830D1-E5A9-4E5A-B08A-F0A16EC4019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26DD8-F2E1-4ECC-B9E1-10CF756E709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37F19-F511-4701-85E0-3A0CFEFABD0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799B9-FE36-44B8-A6E9-8E0D9FE1BDE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F1DEC-1CA2-4B71-81D5-07C33A06C28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CBB9F-B66A-4F50-9810-6BB9D7956D8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14165-FF8D-4CF7-BF47-98E4F102258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1D878-7BF2-42D1-AC91-2CF0D5FD361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D24AF-7B7A-40D8-BCE5-7E5C6E052D7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6BFB3-8291-4AB1-A302-9F94113008B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22F08-323D-43C6-A8B8-C36F4598305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1461A-E9DD-4539-9E50-343C65A0DFD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47B7C-092E-455C-8A1B-4CE6DC7DACB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24866-BAE4-4CE1-AA2E-51DF9E94721C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3F9BB-C05D-4A30-97B4-CE38D682527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639A9-8F2C-4594-9F3D-4328164F29AF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9C95F-BB88-4967-8615-F33B3408E88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07DE1-4F56-4F07-8423-A1AAD17239F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83A8B-E8A8-47E2-8F76-8D8E6990746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71C68-B3A0-4B0F-8A7B-55993AA9863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6624C-FB66-4FDD-AB2B-1581B544452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20FCB-D1F8-491D-AA71-476DC491A1C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F80C3-5B3B-4F4D-84D2-434B991ECE4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6F0A3-19B2-4578-892C-75F7DA8F8DE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794D5-BA08-404B-B624-E507C37E751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30A11-9784-42C6-8D9A-80580EA13A1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B5E5F-5C5A-422D-8C40-0DE033CEAE5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6B850-4E55-4595-B07B-A405A31BC13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78EFD-1465-4022-85B8-0478F0BE98F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9FE42-F42C-4C82-BEEC-1F3F7A6698F8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36FBE-A33B-4918-87A3-361B51818B7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5BB2F-959E-4370-BDBE-C70C2D19301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9027E-13C1-411F-859C-E4CE66CB2CB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B6D54-37AB-4410-8DA9-DC03881C84E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8D9EA-4F2D-4411-8A36-3B4229AA698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77182-A5D8-4FDE-987A-59ACD5A0960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CCBA6-0EAA-4446-AEFA-95354B38E75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66"/>
                </a:solidFill>
                <a:latin typeface="Rockwell"/>
              </a:rPr>
              <a:t>Poetic Terms</a:t>
            </a:r>
            <a:endParaRPr b="0" lang="en-US" sz="40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9898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llitera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repetition of initial consonant sounds in close succession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I have stood still and stopped the sound of feet 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When far away an interrupted cry 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ame over houses from another street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- from Robert Frost’s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Acquainted with the Nigh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ssonan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repeated vowel sounds in a sequence of words or lines for special effec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From the molten-golden notes,  And an in tune,  What a liquid ditty floats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–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from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The Bells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by Edgar Allan Po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nsonan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repetition of the same consonant two or more times in short succession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pitter patter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ll mammals named Sam are clammy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llus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reference to a literary or historic person or subjec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he has the same views as Diana, the moon goddess.” Taken from the modern text of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Romeo and Julie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yperbol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an extreme exaggeration in a statement or figure of speech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Her head was the size of the world!”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I am so hungry I could eat a horse”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45" name="Picture 5" descr="http://rds.yahoo.com/_ylt=A0WTb_wR3blLmjQAUEGjzbkF/SIG=12bl9t8uo/EXP=1270558353/**http%3a/www.webdesign.org/img_articles/9545/horse_29.jpg"/>
          <p:cNvPicPr/>
          <p:nvPr/>
        </p:nvPicPr>
        <p:blipFill>
          <a:blip r:embed="rId1"/>
          <a:stretch/>
        </p:blipFill>
        <p:spPr>
          <a:xfrm>
            <a:off x="4505400" y="2286000"/>
            <a:ext cx="35528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Onomatopoeia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use of words that sound like their meaning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Munch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Ooz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izzle!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Bang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Zip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peti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aying a line or word over and over again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Mother I ne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mother I ne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mother I need your blackness now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s the august earth needs rain.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- take from Audre Lorde’s poem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From the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House of Yemanja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tanza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group of lines in a poem that are written in a bunch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aken from Kimiko Hahn’s poem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Daughter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lthough I’m oldest I can’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the one who pain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Or speaks grandmother’s languag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like a picture-bride marriag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o a still life: a plat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of oranges, plums and grap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Free Vers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lines that do not rhyme or have a rhythmic pattern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I May Be Dreaming, But Wouldn't It Be Great If..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…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I were a genius who could get straight As in school without having to do any homework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…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My parents let me eat dessert first and then anything else wanted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…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My little sister moved to an island off the coast of Madagascar and I never heard from her again, except on my birthdays, when she'd send me a card with money in it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 …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Instead of making me go to Sunday school, my parents would take me and my girlfriend to the amusement park, where I could practice the Golden Rule on the roller coaster by holding her hand whenever she got scared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By: Bruce Lansky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Blank Vers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Regular meter but no rhyme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(most commonly thought of as iambic pentameter with no rhyme)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But,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oft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wha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light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rough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yon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er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win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w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breaks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is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e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east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and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Jul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e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is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e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un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-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rise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fair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un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and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kill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e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en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vious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moon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o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is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al-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read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y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ick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and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pale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with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grief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a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thou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her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maid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ar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far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more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fair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an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he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ct 2,Sc. 2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hym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repetition of sound in accented syllables that appear in similar positions in lines of poetry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14" name="Picture 3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129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yric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line of poetry that can be put to music in a song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merica the Beautiful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O beautiful for spacious skies,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or amber waves of grain,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or purple mountain majesti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bove the fruited plai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merica! America!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od shed His grace on thee,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nd crown thy good with brotherhoo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rom sea to shining sea!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hem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main idea around which a poem is written.  The lesson a poem hopes to teach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on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Writer’s attitude towards the subject and audienc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Sweet is my hope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Pure is the life of my hope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With my sweet hope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 try to reach the higher worlds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With my pure hope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 try to fathom my inner worlds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But alas,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n neither way do I succeed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 fail,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 miserably fail.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hythm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pattern of beats in a line of poetry or in a series of line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ambic pentameter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He jests at scars that never felt a wound.”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He JESTS at SCARS that NEVer FELT a WOUND.”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hyme Schem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pattern of rhyme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"I cannot go to school today," Said little Peggy Ann McKay.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"I have the measles and the mumps,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A gash, a rash and purple bumps.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My mouth is wet, my throat is dry,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I'm going blind in my right eye.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My tonsils are as big as rocks,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I've counted sixteen chicken pox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Figurative Language 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Figurative language is a word or phrase that departs from everyday literal language for the sake of comparison, emphasis, clarity, or freshnes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tools used to create imagery – ex: simile, metaphor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Metapho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figure of speech that makes a direct comparison </a:t>
            </a:r>
            <a:r>
              <a:rPr b="1" lang="en-US" sz="2400" spc="-1" strike="noStrike">
                <a:solidFill>
                  <a:srgbClr val="595959"/>
                </a:solidFill>
                <a:latin typeface="Rockwell"/>
              </a:rPr>
              <a:t>without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the use of the words “like” or “as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e is the sun in my sky”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ime is a thief”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5229360" y="3079800"/>
            <a:ext cx="34574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imil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figure of speech that makes a direct comparison using the words “like” or “as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His stare was as fierce as fire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he danced like an angel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27" name="Picture 7" descr=""/>
          <p:cNvPicPr/>
          <p:nvPr/>
        </p:nvPicPr>
        <p:blipFill>
          <a:blip r:embed="rId1"/>
          <a:stretch/>
        </p:blipFill>
        <p:spPr>
          <a:xfrm>
            <a:off x="4400640" y="2779560"/>
            <a:ext cx="3657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ersonifica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figure of speech that gives objects or animals human characteristic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But the child is watching the teakettle’s small hard tears dance like mad on the hot black stove” – from Elizabeth Bishop’s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Sestina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0" name="Picture 3" descr=""/>
          <p:cNvPicPr/>
          <p:nvPr/>
        </p:nvPicPr>
        <p:blipFill>
          <a:blip r:embed="rId1"/>
          <a:stretch/>
        </p:blipFill>
        <p:spPr>
          <a:xfrm>
            <a:off x="6404040" y="4648320"/>
            <a:ext cx="16509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Imagery 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Formation of mental images using descriptive language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Pictures in your min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 took a walk around the world to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ase my troubled mind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 left my body laying somewhere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n the sands of time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 watched the world float to the dark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ide of the moon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 feel there is nothing I can do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--"Kryptonite" by Three Doors Dow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0:51:26Z</dcterms:created>
  <dc:creator>Katherine Dorn</dc:creator>
  <dc:description/>
  <dc:language>en-US</dc:language>
  <cp:lastModifiedBy> </cp:lastModifiedBy>
  <dcterms:modified xsi:type="dcterms:W3CDTF">2010-04-05T17:49:54Z</dcterms:modified>
  <cp:revision>21</cp:revision>
  <dc:subject/>
  <dc:title>Poetic Terms</dc:title>
</cp:coreProperties>
</file>